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EF1-0D26-4E5A-92D1-5437F80F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E9A-0BC5-4A3B-B973-AE18AD82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350-F494-4AC3-9410-168A6021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308-3231-4C6D-BC67-6EA44629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3F7-A81F-4EB6-AEE1-F288DFA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9DB-8851-4177-AAA4-DDAA7AD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80C-D0A3-43A1-BBCC-A3A987F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DD8-5808-499F-B178-595721C0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67A-518C-416F-8CE7-53A3082C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87B-4BE7-4667-8F0B-A135138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CD2-9B69-48E6-A5C4-56AD409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878-50E2-44E2-90FA-25A353D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869-F61C-4913-8E49-ADA50B25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1144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tencil"/>
              </a:rPr>
              <a:t>Call to Or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175248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Ultra Bold"/>
              </a:rPr>
              <a:t>Abraham Lincoln described the American democracy as a “</a:t>
            </a: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of the peo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by the peop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for the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495680" y="4495680"/>
            <a:ext cx="46483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Can money buy influence in gov’t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f so, how?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f not, why not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s that </a:t>
            </a:r>
            <a:r>
              <a:rPr b="1" lang="en-US" sz="2500" spc="-1" strike="noStrike">
                <a:solidFill>
                  <a:srgbClr val="000000"/>
                </a:solidFill>
                <a:latin typeface="Tahoma Small Cap"/>
              </a:rPr>
              <a:t>un-Democratic</a:t>
            </a: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1676520"/>
            <a:ext cx="436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33ccff"/>
            </a:gs>
            <a:gs pos="100000">
              <a:srgbClr val="99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 Extra Bold"/>
              </a:rPr>
              <a:t>Interest Groups Infl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590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Stencil"/>
              </a:rPr>
              <a:t>Lobb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he process of meeting a lawmaker (face to face) to persuad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 rot="5400000">
            <a:off x="6971760" y="342720"/>
            <a:ext cx="106704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 flipH="1" rot="16200000">
            <a:off x="799920" y="266760"/>
            <a:ext cx="106704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Tomorrow we’ll talk about Lobbyists and how they influence lawmaker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41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Today, let’s  look at how some PACs spend their mone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228600"/>
          <a:ext cx="8077320" cy="106668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8" name="Macintosh HD:Users:Moots:Desktop:American Government 2010-2011:Unit 3:3.02 Special Interest Groups:AARP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429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228600"/>
          <a:ext cx="7924680" cy="838080"/>
        </p:xfrm>
        <a:graphic>
          <a:graphicData uri="http://schemas.openxmlformats.org/drawingml/2006/table">
            <a:tbl>
              <a:tblPr/>
              <a:tblGrid>
                <a:gridCol w="3581280"/>
                <a:gridCol w="4343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0" name="Macintosh HD:Users:Moots:Desktop:American Government 2010-2011:Unit 3:3.02 Special Interest Groups:AFL" descr=""/>
          <p:cNvPicPr/>
          <p:nvPr/>
        </p:nvPicPr>
        <p:blipFill>
          <a:blip r:embed="rId1"/>
          <a:stretch/>
        </p:blipFill>
        <p:spPr>
          <a:xfrm>
            <a:off x="0" y="1219320"/>
            <a:ext cx="9547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62120" y="0"/>
          <a:ext cx="7543800" cy="1006560"/>
        </p:xfrm>
        <a:graphic>
          <a:graphicData uri="http://schemas.openxmlformats.org/drawingml/2006/table">
            <a:tbl>
              <a:tblPr/>
              <a:tblGrid>
                <a:gridCol w="3276360"/>
                <a:gridCol w="42674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2" name="Macintosh HD:Users:Moots:Desktop:American Government 2010-2011:Unit 3:3.02 Special Interest Groups:Peta" descr=""/>
          <p:cNvPicPr/>
          <p:nvPr/>
        </p:nvPicPr>
        <p:blipFill>
          <a:blip r:embed="rId1"/>
          <a:stretch/>
        </p:blipFill>
        <p:spPr>
          <a:xfrm>
            <a:off x="304920" y="1162080"/>
            <a:ext cx="7696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28600"/>
          <a:ext cx="8229600" cy="914400"/>
        </p:xfrm>
        <a:graphic>
          <a:graphicData uri="http://schemas.openxmlformats.org/drawingml/2006/table">
            <a:tbl>
              <a:tblPr/>
              <a:tblGrid>
                <a:gridCol w="3886200"/>
                <a:gridCol w="4343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4" name="Macintosh HD:Users:Moots:Desktop:American Government 2010-2011:Unit 3:3.02 Special Interest Groups:Sierra Club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4678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33520" y="152280"/>
          <a:ext cx="8229600" cy="100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6" name="Macintosh HD:Users:Moots:Desktop:American Government 2010-2011:Unit 3:3.02 Special Interest Groups:Truth Anti-Smoking" descr=""/>
          <p:cNvPicPr/>
          <p:nvPr/>
        </p:nvPicPr>
        <p:blipFill>
          <a:blip r:embed="rId1"/>
          <a:stretch/>
        </p:blipFill>
        <p:spPr>
          <a:xfrm>
            <a:off x="838080" y="1200240"/>
            <a:ext cx="7315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2280" y="0"/>
          <a:ext cx="8915400" cy="662616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3809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ff"/>
                          </a:solidFill>
                          <a:latin typeface="Impact"/>
                        </a:rPr>
                        <a:t>Liberal Grou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Impact"/>
                        </a:rPr>
                        <a:t>Conservative Grou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Imag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96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 Small Cap"/>
              </a:rPr>
              <a:t>Directions</a:t>
            </a: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: Using the interest group descriptions sheet (front and back!), match interest groups that would be competing with each other to get elected officials to support their posi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In the first 2 boxes on the left, you will write the name of the interest grou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Liberal on the left,  Conservative on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In the box on the far right, draw a picture that represents the focus of the interest grou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urlz MT"/>
                <a:ea typeface="Curlz MT"/>
              </a:rPr>
              <a:t>Let’s quickly review yesterday’s material…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2438280"/>
            <a:ext cx="8229600" cy="3200400"/>
          </a:xfrm>
          <a:prstGeom prst="rect">
            <a:avLst/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ferend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ctions that constituents can take in order affect change in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048120" y="2971800"/>
            <a:ext cx="3886200" cy="6426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cision that voters get to decide on by voting “yes” or “no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200400" y="4876920"/>
            <a:ext cx="3886200" cy="6426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, showing up to legislative hearings, writing a letter…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80880" y="5715000"/>
            <a:ext cx="8229600" cy="642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With these two things in mind, let’s assess our knowledge from yesterday by completing the exit ticket </a:t>
            </a:r>
            <a:r>
              <a:rPr b="1" lang="en-US" sz="1800" spc="-1" strike="noStrike">
                <a:solidFill>
                  <a:srgbClr val="10253f"/>
                </a:solidFill>
                <a:latin typeface="Wingdings"/>
                <a:ea typeface="Wingdings"/>
              </a:rPr>
              <a:t>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Small Cap"/>
              </a:rPr>
              <a:t>We’ll be working off of the same sheet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543800" y="2057400"/>
            <a:ext cx="1600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raw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in the Special  Interest Group blank to match m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7391520" cy="5710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4038480" y="44956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5791320" y="44956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038480" y="609588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4038480" y="52578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2"/>
          <a:stretch/>
        </p:blipFill>
        <p:spPr>
          <a:xfrm>
            <a:off x="7243920" y="0"/>
            <a:ext cx="19000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Stencil"/>
              </a:rPr>
              <a:t>Key Te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752480"/>
          <a:ext cx="8686800" cy="192096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n organization with  </a:t>
                      </a:r>
                      <a:r>
                        <a:rPr b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ne</a:t>
                      </a: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goal that </a:t>
                      </a:r>
                      <a:r>
                        <a:rPr b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fluences</a:t>
                      </a: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lawmakers by lobbying.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3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2286000" cy="227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4"/>
          <a:stretch/>
        </p:blipFill>
        <p:spPr>
          <a:xfrm>
            <a:off x="5715000" y="5226120"/>
            <a:ext cx="2971800" cy="16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3733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t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715000" y="13446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5105520" y="19810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3"/>
          <a:stretch/>
        </p:blipFill>
        <p:spPr>
          <a:xfrm>
            <a:off x="236232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4"/>
          <a:stretch/>
        </p:blipFill>
        <p:spPr>
          <a:xfrm>
            <a:off x="472428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5"/>
          <a:stretch/>
        </p:blipFill>
        <p:spPr>
          <a:xfrm>
            <a:off x="708660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t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715000" y="3066840"/>
            <a:ext cx="313200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onate money to a lawmaker’s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715000" y="13446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5105520" y="19810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105520" y="3505320"/>
            <a:ext cx="533160" cy="53316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2"/>
          <a:stretch/>
        </p:blipFill>
        <p:spPr>
          <a:xfrm>
            <a:off x="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3"/>
          <a:stretch/>
        </p:blipFill>
        <p:spPr>
          <a:xfrm>
            <a:off x="236232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4"/>
          <a:stretch/>
        </p:blipFill>
        <p:spPr>
          <a:xfrm>
            <a:off x="472428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5"/>
          <a:stretch/>
        </p:blipFill>
        <p:spPr>
          <a:xfrm>
            <a:off x="708660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D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715000" y="2914200"/>
            <a:ext cx="313200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onate money to a lawmaker’s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715000" y="4892400"/>
            <a:ext cx="313704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Meet with lawmakers to discuss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715000" y="11160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105520" y="1676520"/>
            <a:ext cx="533160" cy="53316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105520" y="33526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105520" y="525780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274320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3"/>
          <a:stretch/>
        </p:blipFill>
        <p:spPr>
          <a:xfrm>
            <a:off x="38088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et’s Take a Look at the N.R.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575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7391520" y="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343400" y="1447920"/>
            <a:ext cx="426708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The N.R.A. can influence how people think about guns by buying ads and donating to politicians who support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1427040"/>
            <a:ext cx="6629400" cy="5430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 Small Cap"/>
              </a:rPr>
              <a:t>Gas and Oil companies also spend money to influence lawmak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6000840" y="266688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3:45:59Z</dcterms:created>
  <dc:creator>Matthew J Lummel</dc:creator>
  <dc:description/>
  <dc:language>en-US</dc:language>
  <cp:lastModifiedBy>Molly Zeins</cp:lastModifiedBy>
  <dcterms:modified xsi:type="dcterms:W3CDTF">2010-12-08T00:52:29Z</dcterms:modified>
  <cp:revision>10</cp:revision>
  <dc:subject/>
  <dc:title>Call to Order</dc:title>
</cp:coreProperties>
</file>